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C0C-E694-4DC4-9542-7A675FFA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C3B-82BF-43FA-91B8-3ED75ECF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66A-A229-4C69-91D3-C396613B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FA7-8E2E-4816-A726-1CA8A57D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FC9-C1D0-4326-B7B0-8D09773A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22E-D7BC-4C75-907D-BD954FFD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9E8-704F-4A50-B194-44FAF0B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DD1-7A42-4D00-B649-E1DFC86D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83B-FECA-4D32-B112-507948A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0DE-2495-4CCE-9C3F-C5E7C66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241-1765-49E2-8858-C82668E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348-5846-4DD8-B980-FD47B60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9C5-33C0-44C8-BA02-D0D7E13E9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6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48.radikal.ru/i122/0812/c3/31c47a4f1422.jpg" TargetMode="External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2/131/62131881_055002.jpg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source=wiz&amp;img_url=http://static.baza.farpost.ru/v/1410215908164_thumbnail120&amp;_=1447008051318&amp;p=6&amp;text=&#1092;&#1086;&#1090;&#1086;%20&#1087;&#1086;&#1083;&#1077;&#1074;&#1099;&#1093;%20&#1094;&#1074;&#1077;&#1090;&#1086;&#1074;&amp;no" TargetMode="External"/><Relationship Id="rId2" Type="http://schemas.openxmlformats.org/officeDocument/2006/relationships/hyperlink" Target="https://yandex.ru/images/search?text=&#1092;&#1086;&#1090;&#1086;%20&#1087;&#1086;&#1083;&#1077;&#1074;&#1086;&#1075;&#1086;%20&#1084;&#1072;&#1082;&#1072;&amp;stype=image&amp;lr=213&amp;noreask=1&amp;source=wiz" TargetMode="External"/><Relationship Id="rId3" Type="http://schemas.openxmlformats.org/officeDocument/2006/relationships/hyperlink" Target="https://yandex.ru/images/search?text=&#1092;&#1086;&#1090;&#1086;%20&#1085;&#1077;&#1079;&#1072;&#1073;&#1091;&#1076;&#1082;&#1080;%20&#1087;&#1086;&#1083;&#1077;&#1074;&#1086;&#1081;&amp;stype=image&amp;lr=213&amp;noreask=1&amp;source=wiz" TargetMode="External"/><Relationship Id="rId4" Type="http://schemas.openxmlformats.org/officeDocument/2006/relationships/hyperlink" Target="https://yandex.ru/images/search?img_url=http%3A%2F%2Fgryadka.in.ua%2Fpictures%2Fproduct%2Fxsmall%2F6074_xsmall.jpg&amp;_=1447007201404&amp;p=1&amp;text=&#1092;&#1086;&#1090;&#1086;%20&#1075;&#1086;&#1083;&#1091;&#1073;&#1086;&#1075;&#1086;%20&#1083;&#1100;&#1085;&#1072;&amp;noreask=1&amp;pos" TargetMode="External"/><Relationship Id="rId5" Type="http://schemas.openxmlformats.org/officeDocument/2006/relationships/hyperlink" Target="http://img0.liveinternet.ru/images/attach/c/7/98/694/98694570_74447940_3978565_lawn_Echinacea_angustifolia.jpg" TargetMode="External"/><Relationship Id="rId6" Type="http://schemas.openxmlformats.org/officeDocument/2006/relationships/hyperlink" Target="http://static.iledebeaute.ru/files/images/imgsng/part_20/401112/src/1494212.jpeg" TargetMode="External"/><Relationship Id="rId7" Type="http://schemas.openxmlformats.org/officeDocument/2006/relationships/hyperlink" Target="https://yandex.ru/images/search?source=wiz&amp;img_url=http%3A%2F%2Fclub.foto.ru%2Fgallery%2Fimages%2Fthumb%2F2009%2F07%2F27%2F1393073.jpg&amp;_=1447008265058&amp;p=14&amp;text=&#1092;&#1086;&#1090;&#1086;%20&#1087;&#1086;&#1083;&#1077;&#1074;&#1099;&#1093;%20&#1094;&#1074;&#1077;%D1%258" TargetMode="External"/><Relationship Id="rId8" Type="http://schemas.openxmlformats.org/officeDocument/2006/relationships/hyperlink" Target="http://celebnoe.3dn.ru/_pu/0/83641666.jpg" TargetMode="External"/><Relationship Id="rId9" Type="http://schemas.openxmlformats.org/officeDocument/2006/relationships/hyperlink" Target="https://yandex.ru/images/search?source=wiz&amp;img_url=http%3A%2F%2Fflowers.on-planet.net%2Fbin%2F2677%2Fw60%2FpwU4VSHm.jpg&amp;text=&#1092;&#1086;&#1090;&#1086;%20&#1083;&#1102;&#1090;&#1080;&#1082;&#1072;&amp;noreask=1&amp;pos=4&amp;lr=213&amp;rpt=simage" TargetMode="External"/><Relationship Id="rId10" Type="http://schemas.openxmlformats.org/officeDocument/2006/relationships/hyperlink" Target="http://www.mukachevo.net/Content/img/news/p_74436_1_gallerybig.jpg" TargetMode="External"/><Relationship Id="rId11" Type="http://schemas.openxmlformats.org/officeDocument/2006/relationships/hyperlink" Target="http://nasotke.ru/wp-content/uploads/2014/02/klumba-odnoletnikov-svoimi-rukami-foto-6.jpg" TargetMode="External"/><Relationship Id="rId12" Type="http://schemas.openxmlformats.org/officeDocument/2006/relationships/hyperlink" Target="https://yandex.ru/images/search?source=wiz&amp;img_url=http%3A%2F%2Fsadoved.chost.com.ua%2Fsites%2Fdefault%2Ffiles%2Fstyles%2Fthumbnail_80x60%2Fpublic%2Fuploads%2Fposts%2F2012-05%2Fthumbs%2F1336389220_zveroboy.jpg%3Fitok%3Dq8lOFfuv&amp;_=1447009864213&amp;p=1&amp;text=%D1" TargetMode="External"/><Relationship Id="rId13" Type="http://schemas.openxmlformats.org/officeDocument/2006/relationships/hyperlink" Target="https://yandex.ru/images/search?source=wiz&amp;img_url=http%3A%2F%2Fwww.ua.all.biz%2Fimg%2Fua%2Fcatalog%2Fsmall%2F1208125.jpeg&amp;_=1447010051034&amp;p=1&amp;text=&#1092;&#1086;&#1090;&#1086;%20&#1076;&#1091;&#1096;&#1080;&#1094;&#1099;%20&#1086;&#1073;&#1099;&#1082;&#1085;&#1086;&#1074;" TargetMode="External"/><Relationship Id="rId14" Type="http://schemas.openxmlformats.org/officeDocument/2006/relationships/hyperlink" Target="https://yandex.ru/images/search?source=wiz&amp;img_url=http%3A%2F%2Fs3.timetoast.com%2Fpublic%2Fuploads%2Fphotos%2F5247960%2F804752%287%29_small_square.jpg%3F1395593816&amp;_=1447010307129&amp;p=1&amp;text=&#1092;&#1086;&#1090;&#1086;%20&#1094;&#1074;&#1077;&#1090;&#1082;&#1072;%20" TargetMode="External"/><Relationship Id="rId15" Type="http://schemas.openxmlformats.org/officeDocument/2006/relationships/hyperlink" Target="https://yandex.ru/images/search?source=wiz&amp;img_url=http%3A%2F%2Fmassage2go.com.ua%2Fuploads%2Fposts%2F2013-11%2Fk8r8n8idwf.jpg&amp;_=1447010483095&amp;p=2&amp;text=&#1092;&#1086;&#1090;&#1086;%20&#1094;&#1074;&#1077;&#1090;&#1082;&#1072;%20&#1074;&#1072;&#1089;&#1080;&#1083;&#1077;%25D" TargetMode="External"/><Relationship Id="rId16" Type="http://schemas.openxmlformats.org/officeDocument/2006/relationships/hyperlink" Target="http://www.catalogodiseno.com/wp-content/uploads/2013/11/planta-diente-de-leon-830x604.jpg" TargetMode="External"/><Relationship Id="rId17" Type="http://schemas.openxmlformats.org/officeDocument/2006/relationships/hyperlink" Target="http://strport.ru/sites/default/files/klever_rozovyy.jpg" TargetMode="External"/><Relationship Id="rId18" Type="http://schemas.openxmlformats.org/officeDocument/2006/relationships/hyperlink" Target="http://www.ochevidets.ru/userfiles/2015/08/21/2bf23af28a.jpg" TargetMode="External"/><Relationship Id="rId19" Type="http://schemas.openxmlformats.org/officeDocument/2006/relationships/hyperlink" Target="https://yandex.ru/images/search?source=wiz&amp;img_url=http%3A%2F%2Flivealong.ru%2Fsites%2Fdefault%2Ffiles%2Fimagecache%2Ffrontannoncesimg%2Fu136%2F2014%2F02%2F11790.jpg&amp;text=&#1092;&#1086;&#1090;&#1086;%20&#1094;&#1074;&#1077;&#1090;&#1082;&#1072;%20&#1084;&#1077;&#1076;%25" TargetMode="External"/><Relationship Id="rId20" Type="http://schemas.openxmlformats.org/officeDocument/2006/relationships/hyperlink" Target="https://yandex.ru/images/search?source=wiz&amp;img_url=http%3A%2F%2Fzapitai.com.ua%2Fimages%2Fvidpov_1_1214048211_2064.jpg&amp;_=1447011600224&amp;p=1&amp;text=&#1092;&#1086;&#1090;&#1086;%20&#1084;&#1072;&#1090;&#1100;-&#1080;-&#1084;&#1072;&#1095;&#1077;&#1093;&#1072;%20&#1088;&#1072;%25D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20.xml"/><Relationship Id="rId10" Type="http://schemas.openxmlformats.org/officeDocument/2006/relationships/slide" Target="slide27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_22db3_c2349f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918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«Встреча с цветами – это всегда радость»</a:t>
            </a:r>
            <a:br>
              <a:rPr sz="3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6720840"/>
            <a:ext cx="8964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Управляющая кнопка: далее 4">
            <a:hlinkClick r:id="rId2" action="ppaction://hlinksldjump"/>
          </p:cNvPr>
          <p:cNvSpPr/>
          <p:nvPr/>
        </p:nvSpPr>
        <p:spPr>
          <a:xfrm>
            <a:off x="8501040" y="6215040"/>
            <a:ext cx="471600" cy="399960"/>
          </a:xfrm>
          <a:custGeom>
            <a:avLst/>
            <a:gdLst>
              <a:gd name="textAreaLeft" fmla="*/ 25920 w 471600"/>
              <a:gd name="textAreaRight" fmla="*/ 445680 w 4716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3794"/>
                </a:moveTo>
                <a:lnTo>
                  <a:pt x="19739" y="10800"/>
                </a:lnTo>
                <a:lnTo>
                  <a:pt x="572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Чайковский - Вальс цветов из балета  Щелкунчик (mp3ostrov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7049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ать при каких болезнях применяются эти цветы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album_1407101339"/>
          <p:cNvPicPr/>
          <p:nvPr/>
        </p:nvPicPr>
        <p:blipFill>
          <a:blip r:embed="rId1"/>
          <a:stretch/>
        </p:blipFill>
        <p:spPr>
          <a:xfrm>
            <a:off x="571680" y="392904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0_17ffb_24685506_XL"/>
          <p:cNvPicPr/>
          <p:nvPr/>
        </p:nvPicPr>
        <p:blipFill>
          <a:blip r:embed="rId2"/>
          <a:stretch/>
        </p:blipFill>
        <p:spPr>
          <a:xfrm>
            <a:off x="4286160" y="392904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7">
            <a:hlinkClick r:id="rId3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http://www.mukachevo.net/Content/img/news/p_74436_1_gallerybig.jpg"/>
          <p:cNvPicPr/>
          <p:nvPr/>
        </p:nvPicPr>
        <p:blipFill>
          <a:blip r:embed="rId5"/>
          <a:stretch/>
        </p:blipFill>
        <p:spPr>
          <a:xfrm>
            <a:off x="571680" y="1214280"/>
            <a:ext cx="321444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http://nasotke.ru/wp-content/uploads/2014/02/klumba-odnoletnikov-svoimi-rukami-foto-6.jpg"/>
          <p:cNvPicPr/>
          <p:nvPr/>
        </p:nvPicPr>
        <p:blipFill>
          <a:blip r:embed="rId6"/>
          <a:srcRect l="0" t="5782" r="10944" b="0"/>
          <a:stretch/>
        </p:blipFill>
        <p:spPr>
          <a:xfrm>
            <a:off x="4357800" y="121428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национальный цветок удмуртского народа? Рассказать о н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804752(7)"/>
          <p:cNvPicPr/>
          <p:nvPr/>
        </p:nvPicPr>
        <p:blipFill>
          <a:blip r:embed="rId1"/>
          <a:stretch/>
        </p:blipFill>
        <p:spPr>
          <a:xfrm>
            <a:off x="1579680" y="1600200"/>
            <a:ext cx="598464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6">
            <a:hlinkClick r:id="rId2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ый маленький цветок, но сколько стихов, легенд и народных сказаний сложено о нем. Вот одна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каком цветке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59679698-30882-213438"/>
          <p:cNvPicPr/>
          <p:nvPr/>
        </p:nvPicPr>
        <p:blipFill>
          <a:blip r:embed="rId1"/>
          <a:stretch/>
        </p:blipFill>
        <p:spPr>
          <a:xfrm>
            <a:off x="1928880" y="1857240"/>
            <a:ext cx="5214960" cy="400068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4">
            <a:hlinkClick r:id="rId2" action="ppaction://hlinksldjump"/>
          </p:cNvPr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цветок спрятался в «черном ящике»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ртинка 1 из 2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57176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домой 6">
            <a:hlinkClick r:id="rId3" action="ppaction://hlinksldjump"/>
          </p:cNvPr>
          <p:cNvSpPr/>
          <p:nvPr/>
        </p:nvSpPr>
        <p:spPr>
          <a:xfrm>
            <a:off x="77151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цветок, у которого около 200 семян. Если бы проросли все семена, то наша земля полностью покрылась этими цвет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омой 8">
            <a:hlinkClick r:id="rId1" action="ppaction://hlinksldjump"/>
          </p:cNvPr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14">
            <a:hlinkClick r:id="rId2" action="ppaction://hlinksldjump"/>
          </p:cNvPr>
          <p:cNvSpPr/>
          <p:nvPr/>
        </p:nvSpPr>
        <p:spPr>
          <a:xfrm>
            <a:off x="65008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http://www.catalogodiseno.com/wp-content/uploads/2013/11/planta-diente-de-leon-830x604.jpg"/>
          <p:cNvPicPr/>
          <p:nvPr/>
        </p:nvPicPr>
        <p:blipFill>
          <a:blip r:embed="rId3"/>
          <a:stretch/>
        </p:blipFill>
        <p:spPr>
          <a:xfrm>
            <a:off x="1285920" y="1285920"/>
            <a:ext cx="62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al"/>
              </a:rPr>
              <a:t>Игра со зрителями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алее 3">
            <a:hlinkClick r:id="rId1" action="ppaction://hlinksldjump"/>
          </p:cNvPr>
          <p:cNvSpPr/>
          <p:nvPr/>
        </p:nvSpPr>
        <p:spPr>
          <a:xfrm>
            <a:off x="7572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оносная трава  с шаровидными цветками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далее 5">
            <a:hlinkClick r:id="rId1" action="ppaction://hlinksldjump"/>
          </p:cNvPr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strport.ru/sites/default/files/klever_rozovyy.jpg"/>
          <p:cNvPicPr/>
          <p:nvPr/>
        </p:nvPicPr>
        <p:blipFill>
          <a:blip r:embed="rId2"/>
          <a:stretch/>
        </p:blipFill>
        <p:spPr>
          <a:xfrm>
            <a:off x="1357200" y="1571760"/>
            <a:ext cx="609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тение часто принимают за голубику или чернику. На прямом стебле четыре листочка, в центре синевато-черная ягода. Имеет неприятный запа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5">
            <a:hlinkClick r:id="rId1" action="ppaction://hlinksldjump"/>
          </p:cNvPr>
          <p:cNvSpPr/>
          <p:nvPr/>
        </p:nvSpPr>
        <p:spPr>
          <a:xfrm>
            <a:off x="771516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ochevidets.ru/userfiles/2015/08/21/2bf23af28a.jpg"/>
          <p:cNvPicPr/>
          <p:nvPr/>
        </p:nvPicPr>
        <p:blipFill>
          <a:blip r:embed="rId3"/>
          <a:stretch/>
        </p:blipFill>
        <p:spPr>
          <a:xfrm>
            <a:off x="1285920" y="2357280"/>
            <a:ext cx="5643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обычный весенний цветок: когда распускается – он розовый, через несколько дней становится пурпурным, потом – фиолетовым и, наконец, синим. Какой же цветок четырежды меняет свой цвет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ulmonaria_mollis1"/>
          <p:cNvPicPr/>
          <p:nvPr/>
        </p:nvPicPr>
        <p:blipFill>
          <a:blip r:embed="rId1"/>
          <a:stretch/>
        </p:blipFill>
        <p:spPr>
          <a:xfrm>
            <a:off x="857160" y="20718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Управляющая кнопка: далее 6">
            <a:hlinkClick r:id="rId2" action="ppaction://hlinksldjump"/>
          </p:cNvPr>
          <p:cNvSpPr/>
          <p:nvPr/>
        </p:nvSpPr>
        <p:spPr>
          <a:xfrm>
            <a:off x="778680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цветок начинает расти еще под снегом. Листья у этого растения сверху гладкие, зеленые, снизу – беловойлочные. При прикосновении нижняя сторона листа кажется теплой, а верхняя холодной, из-за этого ощущения растение имеет своеобразное название. Какое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lrg_37693_aC052374"/>
          <p:cNvPicPr/>
          <p:nvPr/>
        </p:nvPicPr>
        <p:blipFill>
          <a:blip r:embed="rId1"/>
          <a:stretch/>
        </p:blipFill>
        <p:spPr>
          <a:xfrm>
            <a:off x="428760" y="3143160"/>
            <a:ext cx="3929040" cy="305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246"/>
          <p:cNvPicPr/>
          <p:nvPr/>
        </p:nvPicPr>
        <p:blipFill>
          <a:blip r:embed="rId2"/>
          <a:srcRect l="0" t="0" r="0" b="7036"/>
          <a:stretch/>
        </p:blipFill>
        <p:spPr>
          <a:xfrm>
            <a:off x="4643280" y="2214720"/>
            <a:ext cx="392940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назад 8">
            <a:hlinkClick r:id="rId3" action="ppaction://hlinksldjump"/>
          </p:cNvPr>
          <p:cNvSpPr/>
          <p:nvPr/>
        </p:nvSpPr>
        <p:spPr>
          <a:xfrm>
            <a:off x="74296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Картинка 63 из 409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Управляющая кнопка: далее 2">
            <a:hlinkClick r:id="rId3" action="ppaction://hlinksldjump"/>
          </p:cNvPr>
          <p:cNvSpPr/>
          <p:nvPr/>
        </p:nvSpPr>
        <p:spPr>
          <a:xfrm>
            <a:off x="8358120" y="6143760"/>
            <a:ext cx="471600" cy="47124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2" y="3794"/>
                </a:moveTo>
                <a:lnTo>
                  <a:pt x="17815" y="10800"/>
                </a:lnTo>
                <a:lnTo>
                  <a:pt x="3802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быстрее соберет  из разноцветных кусочков картинки с изображением цв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далее 3">
            <a:hlinkClick r:id="rId1" action="ppaction://hlinksldjump"/>
          </p:cNvPr>
          <p:cNvSpPr/>
          <p:nvPr/>
        </p:nvSpPr>
        <p:spPr>
          <a:xfrm>
            <a:off x="621504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омой 4">
            <a:hlinkClick r:id="rId2" action="ppaction://hlinksldjump"/>
          </p:cNvPr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al"/>
              </a:rPr>
              <a:t>Игра со зрителями</a:t>
            </a:r>
            <a:br>
              <a:rPr sz="80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(отгадайте загадки)</a:t>
            </a:r>
            <a:br>
              <a:rPr sz="8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3">
            <a:hlinkClick r:id="rId1" action="ppaction://hlinksldjump"/>
          </p:cNvPr>
          <p:cNvSpPr/>
          <p:nvPr/>
        </p:nvSpPr>
        <p:spPr>
          <a:xfrm>
            <a:off x="764388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меня, друзья, – пустяк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ноты, буква, мягкий зна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у в садах, расту я в парни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 в букетах и в подарка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b_16"/>
          <p:cNvPicPr/>
          <p:nvPr/>
        </p:nvPicPr>
        <p:blipFill>
          <a:blip r:embed="rId1"/>
          <a:stretch/>
        </p:blipFill>
        <p:spPr>
          <a:xfrm>
            <a:off x="1557360" y="2214720"/>
            <a:ext cx="5371920" cy="39114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далее 3">
            <a:hlinkClick r:id="rId2" action="ppaction://hlinksldjump"/>
          </p:cNvPr>
          <p:cNvSpPr/>
          <p:nvPr/>
        </p:nvSpPr>
        <p:spPr>
          <a:xfrm>
            <a:off x="778680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ос в поле злой и колки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се стороны иголк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5">
            <a:hlinkClick r:id="rId1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patologii.net/uploads/posts/2015-07/1436301047_139.jpeg"/>
          <p:cNvPicPr/>
          <p:nvPr/>
        </p:nvPicPr>
        <p:blipFill>
          <a:blip r:embed="rId3"/>
          <a:stretch/>
        </p:blipFill>
        <p:spPr>
          <a:xfrm>
            <a:off x="1857240" y="22860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под снега расцвета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ьше всех весну встреча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article"/>
          <p:cNvPicPr/>
          <p:nvPr/>
        </p:nvPicPr>
        <p:blipFill>
          <a:blip r:embed="rId1"/>
          <a:stretch/>
        </p:blipFill>
        <p:spPr>
          <a:xfrm>
            <a:off x="1163520" y="2071800"/>
            <a:ext cx="6266160" cy="405432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алее 5">
            <a:hlinkClick r:id="rId2" action="ppaction://hlinksldjump"/>
          </p:cNvPr>
          <p:cNvSpPr/>
          <p:nvPr/>
        </p:nvSpPr>
        <p:spPr>
          <a:xfrm>
            <a:off x="78580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брат зовет всех на уро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я в полях стою высок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ветра голову склоню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чему-то не звоню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2043224"/>
          <p:cNvPicPr/>
          <p:nvPr/>
        </p:nvPicPr>
        <p:blipFill>
          <a:blip r:embed="rId1"/>
          <a:stretch/>
        </p:blipFill>
        <p:spPr>
          <a:xfrm>
            <a:off x="1357200" y="2643120"/>
            <a:ext cx="5857920" cy="374004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5">
            <a:hlinkClick r:id="rId2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кой розой называю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лекарство принимаю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далее 5">
            <a:hlinkClick r:id="rId1" action="ppaction://hlinksldjump"/>
          </p:cNvPr>
          <p:cNvSpPr/>
          <p:nvPr/>
        </p:nvSpPr>
        <p:spPr>
          <a:xfrm>
            <a:off x="7643880" y="5214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id.wallpaperforgirls.com/lite/bunga-bunga/wallpaper-untuk-anak-perempuan-1024x600-407-e827b529.jpg"/>
          <p:cNvPicPr/>
          <p:nvPr/>
        </p:nvPicPr>
        <p:blipFill>
          <a:blip r:embed="rId3"/>
          <a:srcRect l="0" t="0" r="15771" b="0"/>
          <a:stretch/>
        </p:blipFill>
        <p:spPr>
          <a:xfrm>
            <a:off x="1214280" y="1500120"/>
            <a:ext cx="6286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их композиторов 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дохновляли на соз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зыкальных произведе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ая команда больше знает песен о  цветах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алее 3">
            <a:hlinkClick r:id="rId1" action="ppaction://hlinksldjump"/>
          </p:cNvPr>
          <p:cNvSpPr/>
          <p:nvPr/>
        </p:nvSpPr>
        <p:spPr>
          <a:xfrm>
            <a:off x="7572240" y="53578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1494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428400"/>
            <a:ext cx="8300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"/>
              </a:rPr>
              <a:t>фото полевых ц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фото полевого м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28760" y="3000240"/>
            <a:ext cx="60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3"/>
              </a:rPr>
              <a:t>фото незабу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28760" y="1000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4"/>
              </a:rPr>
              <a:t>фото голубого 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428760" y="128592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5"/>
              </a:rPr>
              <a:t>http://Echinacea_angustifoli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428760" y="585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6"/>
              </a:rPr>
              <a:t>http://static.iledebeaute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286000" y="1857240"/>
            <a:ext cx="77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7"/>
              </a:rPr>
              <a:t>фото гвозд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9"/>
          <p:cNvSpPr/>
          <p:nvPr/>
        </p:nvSpPr>
        <p:spPr>
          <a:xfrm>
            <a:off x="428760" y="1571760"/>
            <a:ext cx="64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8"/>
              </a:rPr>
              <a:t>http://celebnoe.3dn.ru/_pu/0/8364166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0"/>
          <p:cNvSpPr/>
          <p:nvPr/>
        </p:nvSpPr>
        <p:spPr>
          <a:xfrm>
            <a:off x="428760" y="185724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9"/>
              </a:rPr>
              <a:t>фото лю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"/>
          <p:cNvSpPr/>
          <p:nvPr/>
        </p:nvSpPr>
        <p:spPr>
          <a:xfrm>
            <a:off x="428760" y="2143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10"/>
              </a:rPr>
              <a:t>http://www.mukache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2"/>
          <p:cNvSpPr/>
          <p:nvPr/>
        </p:nvSpPr>
        <p:spPr>
          <a:xfrm>
            <a:off x="428760" y="24289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1"/>
              </a:rPr>
              <a:t>фото календу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3"/>
          <p:cNvSpPr/>
          <p:nvPr/>
        </p:nvSpPr>
        <p:spPr>
          <a:xfrm>
            <a:off x="2500200" y="2428920"/>
            <a:ext cx="64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2"/>
              </a:rPr>
              <a:t>фото звероб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428760" y="271476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3"/>
              </a:rPr>
              <a:t>фото душ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5"/>
          <p:cNvSpPr/>
          <p:nvPr/>
        </p:nvSpPr>
        <p:spPr>
          <a:xfrm>
            <a:off x="2714760" y="271476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4"/>
              </a:rPr>
              <a:t>фото италм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6"/>
          <p:cNvSpPr/>
          <p:nvPr/>
        </p:nvSpPr>
        <p:spPr>
          <a:xfrm>
            <a:off x="2428920" y="300024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5"/>
              </a:rPr>
              <a:t>фото василь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7"/>
          <p:cNvSpPr/>
          <p:nvPr/>
        </p:nvSpPr>
        <p:spPr>
          <a:xfrm>
            <a:off x="428760" y="3286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6"/>
              </a:rPr>
              <a:t>фото одуван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8"/>
          <p:cNvSpPr/>
          <p:nvPr/>
        </p:nvSpPr>
        <p:spPr>
          <a:xfrm>
            <a:off x="428760" y="357192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17"/>
              </a:rPr>
              <a:t>http://strport.ru/sites/default/files/klever_rozovy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428760" y="3857760"/>
            <a:ext cx="84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18"/>
              </a:rPr>
              <a:t>http://www.ochevidets.ru/userfiles/2015/08/21/2bf23af28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428760" y="414324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9"/>
              </a:rPr>
              <a:t>фото цветка меду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428760" y="4429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20"/>
              </a:rPr>
              <a:t>фото цветка мать-и-маче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2"/>
          <p:cNvSpPr/>
          <p:nvPr/>
        </p:nvSpPr>
        <p:spPr>
          <a:xfrm>
            <a:off x="3714840" y="435780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ья цветка мать-и-маче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3"/>
          <p:cNvSpPr/>
          <p:nvPr/>
        </p:nvSpPr>
        <p:spPr>
          <a:xfrm>
            <a:off x="428760" y="471492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сир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4"/>
          <p:cNvSpPr/>
          <p:nvPr/>
        </p:nvSpPr>
        <p:spPr>
          <a:xfrm>
            <a:off x="428760" y="5000760"/>
            <a:ext cx="80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patologii.net/uploads/posts/2015-07/1436301047_139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5"/>
          <p:cNvSpPr/>
          <p:nvPr/>
        </p:nvSpPr>
        <p:spPr>
          <a:xfrm>
            <a:off x="428760" y="528624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подснеж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6"/>
          <p:cNvSpPr/>
          <p:nvPr/>
        </p:nvSpPr>
        <p:spPr>
          <a:xfrm>
            <a:off x="2786040" y="5286240"/>
            <a:ext cx="84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колоколь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7"/>
          <p:cNvSpPr/>
          <p:nvPr/>
        </p:nvSpPr>
        <p:spPr>
          <a:xfrm>
            <a:off x="428760" y="5572080"/>
            <a:ext cx="84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цветка шипо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os1.i.ua/3/1/4275592_577e4d26.jpg"/>
          <p:cNvPicPr/>
          <p:nvPr/>
        </p:nvPicPr>
        <p:blipFill>
          <a:blip r:embed="rId1"/>
          <a:srcRect l="3234" t="3541" r="12683" b="167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2">
            <a:hlinkClick r:id="rId2" action="ppaction://hlinksldjump"/>
          </p:cNvPr>
          <p:cNvSpPr/>
          <p:nvPr/>
        </p:nvSpPr>
        <p:spPr>
          <a:xfrm>
            <a:off x="8358120" y="6000840"/>
            <a:ext cx="542880" cy="542880"/>
          </a:xfrm>
          <a:custGeom>
            <a:avLst/>
            <a:gdLst>
              <a:gd name="textAreaLeft" fmla="*/ 34920 w 542880"/>
              <a:gd name="textAreaRight" fmla="*/ 507960 w 5428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data10.gallery.ru/albums/gallery/230561-4b2db-28431973-m750x7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2">
            <a:hlinkClick r:id="rId2" action="ppaction://hlinksldjump"/>
          </p:cNvPr>
          <p:cNvSpPr/>
          <p:nvPr/>
        </p:nvSpPr>
        <p:spPr>
          <a:xfrm>
            <a:off x="8429760" y="6143760"/>
            <a:ext cx="471240" cy="47124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6" descr="74447940_3978565_lawn_Echinacea_angustifolia (700x525, 10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2">
            <a:hlinkClick r:id="rId2" action="ppaction://hlinksldjump"/>
          </p:cNvPr>
          <p:cNvSpPr/>
          <p:nvPr/>
        </p:nvSpPr>
        <p:spPr>
          <a:xfrm>
            <a:off x="8429760" y="6143760"/>
            <a:ext cx="471240" cy="47124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09080" cy="6786720"/>
        </p:xfrm>
        <a:graphic>
          <a:graphicData uri="http://schemas.openxmlformats.org/drawingml/2006/table">
            <a:tbl>
              <a:tblPr/>
              <a:tblGrid>
                <a:gridCol w="3067200"/>
                <a:gridCol w="2985840"/>
                <a:gridCol w="305604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 - был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и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арственные тра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ый цве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ли так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рный ящи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ий худож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чная моза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и о цвет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Управляющая кнопка: справка 2">
            <a:hlinkClick r:id="rId1" action="ppaction://hlinksldjump"/>
          </p:cNvPr>
          <p:cNvSpPr/>
          <p:nvPr/>
        </p:nvSpPr>
        <p:spPr>
          <a:xfrm>
            <a:off x="928800" y="1285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164" h="21600">
                <a:moveTo>
                  <a:pt x="14187" y="14281"/>
                </a:moveTo>
                <a:lnTo>
                  <a:pt x="14187" y="12323"/>
                </a:lnTo>
                <a:cubicBezTo>
                  <a:pt x="14187" y="11496"/>
                  <a:pt x="14518" y="10800"/>
                  <a:pt x="15119" y="10800"/>
                </a:cubicBezTo>
                <a:cubicBezTo>
                  <a:pt x="16250" y="10800"/>
                  <a:pt x="17147" y="9434"/>
                  <a:pt x="17147" y="7849"/>
                </a:cubicBezTo>
                <a:cubicBezTo>
                  <a:pt x="17147" y="5534"/>
                  <a:pt x="15293" y="3794"/>
                  <a:pt x="13082" y="3794"/>
                </a:cubicBezTo>
                <a:cubicBezTo>
                  <a:pt x="10871" y="3794"/>
                  <a:pt x="9200" y="5534"/>
                  <a:pt x="9200" y="7849"/>
                </a:cubicBezTo>
                <a:lnTo>
                  <a:pt x="11054" y="7849"/>
                </a:lnTo>
                <a:cubicBezTo>
                  <a:pt x="11054" y="6709"/>
                  <a:pt x="11977" y="5821"/>
                  <a:pt x="13082" y="5821"/>
                </a:cubicBezTo>
                <a:cubicBezTo>
                  <a:pt x="14187" y="5821"/>
                  <a:pt x="15119" y="6709"/>
                  <a:pt x="15119" y="7849"/>
                </a:cubicBezTo>
                <a:cubicBezTo>
                  <a:pt x="15119" y="8589"/>
                  <a:pt x="14649" y="9320"/>
                  <a:pt x="14187" y="9320"/>
                </a:cubicBezTo>
                <a:cubicBezTo>
                  <a:pt x="13082" y="9320"/>
                  <a:pt x="11977" y="10800"/>
                  <a:pt x="11977" y="12323"/>
                </a:cubicBezTo>
                <a:lnTo>
                  <a:pt x="11977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справка 4">
            <a:hlinkClick r:id="rId2" action="ppaction://hlinksldjump"/>
          </p:cNvPr>
          <p:cNvSpPr/>
          <p:nvPr/>
        </p:nvSpPr>
        <p:spPr>
          <a:xfrm>
            <a:off x="3429000" y="1214280"/>
            <a:ext cx="571680" cy="54324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22730" h="21600">
                <a:moveTo>
                  <a:pt x="0" y="0"/>
                </a:moveTo>
                <a:lnTo>
                  <a:pt x="22730" y="0"/>
                </a:lnTo>
                <a:lnTo>
                  <a:pt x="22730" y="21600"/>
                </a:lnTo>
                <a:lnTo>
                  <a:pt x="0" y="21600"/>
                </a:lnTo>
                <a:close/>
              </a:path>
              <a:path fill="lightenLess" w="22730" h="21600">
                <a:moveTo>
                  <a:pt x="0" y="0"/>
                </a:moveTo>
                <a:lnTo>
                  <a:pt x="22730" y="0"/>
                </a:lnTo>
                <a:lnTo>
                  <a:pt x="21330" y="1400"/>
                </a:lnTo>
                <a:lnTo>
                  <a:pt x="1400" y="1400"/>
                </a:lnTo>
                <a:close/>
              </a:path>
              <a:path fill="darken" w="22730" h="21600">
                <a:moveTo>
                  <a:pt x="22730" y="0"/>
                </a:moveTo>
                <a:lnTo>
                  <a:pt x="22730" y="21600"/>
                </a:lnTo>
                <a:lnTo>
                  <a:pt x="21330" y="20200"/>
                </a:lnTo>
                <a:lnTo>
                  <a:pt x="21330" y="1400"/>
                </a:lnTo>
                <a:close/>
              </a:path>
              <a:path fill="darkenLess" w="22730" h="21600">
                <a:moveTo>
                  <a:pt x="22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0" y="20200"/>
                </a:lnTo>
                <a:close/>
              </a:path>
              <a:path fill="lighten" w="22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0" h="21600">
                <a:moveTo>
                  <a:pt x="113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0" h="21600">
                <a:moveTo>
                  <a:pt x="12470" y="14281"/>
                </a:moveTo>
                <a:lnTo>
                  <a:pt x="12470" y="12323"/>
                </a:lnTo>
                <a:cubicBezTo>
                  <a:pt x="12470" y="11496"/>
                  <a:pt x="12801" y="10800"/>
                  <a:pt x="13402" y="10800"/>
                </a:cubicBezTo>
                <a:cubicBezTo>
                  <a:pt x="14533" y="10800"/>
                  <a:pt x="15430" y="9434"/>
                  <a:pt x="15430" y="7849"/>
                </a:cubicBezTo>
                <a:cubicBezTo>
                  <a:pt x="15430" y="5534"/>
                  <a:pt x="13576" y="3794"/>
                  <a:pt x="11365" y="3794"/>
                </a:cubicBezTo>
                <a:cubicBezTo>
                  <a:pt x="9154" y="3794"/>
                  <a:pt x="7483" y="5534"/>
                  <a:pt x="7483" y="7849"/>
                </a:cubicBezTo>
                <a:lnTo>
                  <a:pt x="9337" y="7849"/>
                </a:lnTo>
                <a:cubicBezTo>
                  <a:pt x="9337" y="6709"/>
                  <a:pt x="10260" y="5821"/>
                  <a:pt x="11365" y="5821"/>
                </a:cubicBezTo>
                <a:cubicBezTo>
                  <a:pt x="12470" y="5821"/>
                  <a:pt x="13402" y="6709"/>
                  <a:pt x="13402" y="7849"/>
                </a:cubicBezTo>
                <a:cubicBezTo>
                  <a:pt x="13402" y="8589"/>
                  <a:pt x="12932" y="9320"/>
                  <a:pt x="12470" y="9320"/>
                </a:cubicBezTo>
                <a:cubicBezTo>
                  <a:pt x="11365" y="9320"/>
                  <a:pt x="10260" y="10800"/>
                  <a:pt x="10260" y="12323"/>
                </a:cubicBezTo>
                <a:lnTo>
                  <a:pt x="10260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справка 5">
            <a:hlinkClick r:id="rId3" action="ppaction://hlinksldjump"/>
          </p:cNvPr>
          <p:cNvSpPr/>
          <p:nvPr/>
        </p:nvSpPr>
        <p:spPr>
          <a:xfrm>
            <a:off x="7429680" y="12859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13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1" h="21600">
                <a:moveTo>
                  <a:pt x="12471" y="14281"/>
                </a:moveTo>
                <a:lnTo>
                  <a:pt x="12471" y="12323"/>
                </a:lnTo>
                <a:cubicBezTo>
                  <a:pt x="12471" y="11496"/>
                  <a:pt x="12802" y="10800"/>
                  <a:pt x="13402" y="10800"/>
                </a:cubicBezTo>
                <a:cubicBezTo>
                  <a:pt x="14534" y="10800"/>
                  <a:pt x="15430" y="9434"/>
                  <a:pt x="15430" y="7849"/>
                </a:cubicBezTo>
                <a:cubicBezTo>
                  <a:pt x="15430" y="5534"/>
                  <a:pt x="13576" y="3794"/>
                  <a:pt x="11365" y="3794"/>
                </a:cubicBezTo>
                <a:cubicBezTo>
                  <a:pt x="9155" y="3794"/>
                  <a:pt x="7484" y="5534"/>
                  <a:pt x="7484" y="7849"/>
                </a:cubicBezTo>
                <a:lnTo>
                  <a:pt x="9337" y="7849"/>
                </a:lnTo>
                <a:cubicBezTo>
                  <a:pt x="9337" y="6709"/>
                  <a:pt x="10260" y="5821"/>
                  <a:pt x="11365" y="5821"/>
                </a:cubicBezTo>
                <a:cubicBezTo>
                  <a:pt x="12471" y="5821"/>
                  <a:pt x="13402" y="6709"/>
                  <a:pt x="13402" y="7849"/>
                </a:cubicBezTo>
                <a:cubicBezTo>
                  <a:pt x="13402" y="8589"/>
                  <a:pt x="12932" y="9320"/>
                  <a:pt x="12471" y="9320"/>
                </a:cubicBezTo>
                <a:cubicBezTo>
                  <a:pt x="11365" y="9320"/>
                  <a:pt x="10260" y="10800"/>
                  <a:pt x="10260" y="12323"/>
                </a:cubicBezTo>
                <a:lnTo>
                  <a:pt x="10260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справка 6">
            <a:hlinkClick r:id="rId4" action="ppaction://hlinksldjump"/>
          </p:cNvPr>
          <p:cNvSpPr/>
          <p:nvPr/>
        </p:nvSpPr>
        <p:spPr>
          <a:xfrm>
            <a:off x="4786200" y="1214280"/>
            <a:ext cx="500040" cy="543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3240"/>
              <a:gd name="textAreaBottom" fmla="*/ 510840 h 543240"/>
            </a:gdLst>
            <a:ahLst/>
            <a:rect l="textAreaLeft" t="textAreaTop" r="textAreaRight" b="textAreaBottom"/>
            <a:pathLst>
              <a:path w="21600" h="23465">
                <a:moveTo>
                  <a:pt x="0" y="0"/>
                </a:moveTo>
                <a:lnTo>
                  <a:pt x="21600" y="0"/>
                </a:lnTo>
                <a:lnTo>
                  <a:pt x="21600" y="23465"/>
                </a:lnTo>
                <a:lnTo>
                  <a:pt x="0" y="23465"/>
                </a:lnTo>
                <a:close/>
              </a:path>
              <a:path fill="lightenLess" w="21600" h="234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5">
                <a:moveTo>
                  <a:pt x="21600" y="0"/>
                </a:moveTo>
                <a:lnTo>
                  <a:pt x="21600" y="23465"/>
                </a:lnTo>
                <a:lnTo>
                  <a:pt x="20200" y="22065"/>
                </a:lnTo>
                <a:lnTo>
                  <a:pt x="20200" y="1400"/>
                </a:lnTo>
                <a:close/>
              </a:path>
              <a:path fill="darkenLess" w="21600" h="23465">
                <a:moveTo>
                  <a:pt x="21600" y="23465"/>
                </a:moveTo>
                <a:lnTo>
                  <a:pt x="0" y="23465"/>
                </a:lnTo>
                <a:lnTo>
                  <a:pt x="1400" y="22065"/>
                </a:lnTo>
                <a:lnTo>
                  <a:pt x="20200" y="22065"/>
                </a:lnTo>
                <a:close/>
              </a:path>
              <a:path fill="lighten" w="21600" h="23465">
                <a:moveTo>
                  <a:pt x="0" y="234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5"/>
                </a:lnTo>
                <a:close/>
              </a:path>
              <a:path fill="darken" w="21600" h="23465">
                <a:moveTo>
                  <a:pt x="10800" y="157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465">
                <a:moveTo>
                  <a:pt x="11905" y="15214"/>
                </a:moveTo>
                <a:lnTo>
                  <a:pt x="11905" y="13256"/>
                </a:lnTo>
                <a:cubicBezTo>
                  <a:pt x="11905" y="12429"/>
                  <a:pt x="12236" y="11732"/>
                  <a:pt x="12837" y="11732"/>
                </a:cubicBezTo>
                <a:cubicBezTo>
                  <a:pt x="13968" y="11732"/>
                  <a:pt x="14865" y="10366"/>
                  <a:pt x="14865" y="8782"/>
                </a:cubicBezTo>
                <a:cubicBezTo>
                  <a:pt x="14865" y="6467"/>
                  <a:pt x="13011" y="4726"/>
                  <a:pt x="10800" y="4726"/>
                </a:cubicBezTo>
                <a:cubicBezTo>
                  <a:pt x="8589" y="4726"/>
                  <a:pt x="6918" y="6467"/>
                  <a:pt x="6918" y="8782"/>
                </a:cubicBezTo>
                <a:lnTo>
                  <a:pt x="8772" y="8782"/>
                </a:lnTo>
                <a:cubicBezTo>
                  <a:pt x="8772" y="7642"/>
                  <a:pt x="9695" y="6754"/>
                  <a:pt x="10800" y="6754"/>
                </a:cubicBezTo>
                <a:cubicBezTo>
                  <a:pt x="11905" y="6754"/>
                  <a:pt x="12837" y="7642"/>
                  <a:pt x="12837" y="8782"/>
                </a:cubicBezTo>
                <a:cubicBezTo>
                  <a:pt x="12837" y="9522"/>
                  <a:pt x="12367" y="10253"/>
                  <a:pt x="11905" y="10253"/>
                </a:cubicBezTo>
                <a:cubicBezTo>
                  <a:pt x="10800" y="10253"/>
                  <a:pt x="9695" y="11732"/>
                  <a:pt x="9695" y="13256"/>
                </a:cubicBezTo>
                <a:lnTo>
                  <a:pt x="9695" y="1521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справка 7">
            <a:hlinkClick r:id="rId5" action="ppaction://hlinksldjump"/>
          </p:cNvPr>
          <p:cNvSpPr/>
          <p:nvPr/>
        </p:nvSpPr>
        <p:spPr>
          <a:xfrm>
            <a:off x="1500120" y="3500280"/>
            <a:ext cx="500040" cy="543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3240"/>
              <a:gd name="textAreaBottom" fmla="*/ 510840 h 543240"/>
            </a:gdLst>
            <a:ahLst/>
            <a:rect l="textAreaLeft" t="textAreaTop" r="textAreaRight" b="textAreaBottom"/>
            <a:pathLst>
              <a:path w="21600" h="23465">
                <a:moveTo>
                  <a:pt x="0" y="0"/>
                </a:moveTo>
                <a:lnTo>
                  <a:pt x="21600" y="0"/>
                </a:lnTo>
                <a:lnTo>
                  <a:pt x="21600" y="23465"/>
                </a:lnTo>
                <a:lnTo>
                  <a:pt x="0" y="23465"/>
                </a:lnTo>
                <a:close/>
              </a:path>
              <a:path fill="lightenLess" w="21600" h="234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5">
                <a:moveTo>
                  <a:pt x="21600" y="0"/>
                </a:moveTo>
                <a:lnTo>
                  <a:pt x="21600" y="23465"/>
                </a:lnTo>
                <a:lnTo>
                  <a:pt x="20200" y="22065"/>
                </a:lnTo>
                <a:lnTo>
                  <a:pt x="20200" y="1400"/>
                </a:lnTo>
                <a:close/>
              </a:path>
              <a:path fill="darkenLess" w="21600" h="23465">
                <a:moveTo>
                  <a:pt x="21600" y="23465"/>
                </a:moveTo>
                <a:lnTo>
                  <a:pt x="0" y="23465"/>
                </a:lnTo>
                <a:lnTo>
                  <a:pt x="1400" y="22065"/>
                </a:lnTo>
                <a:lnTo>
                  <a:pt x="20200" y="22065"/>
                </a:lnTo>
                <a:close/>
              </a:path>
              <a:path fill="lighten" w="21600" h="23465">
                <a:moveTo>
                  <a:pt x="0" y="234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5"/>
                </a:lnTo>
                <a:close/>
              </a:path>
              <a:path fill="darken" w="21600" h="23465">
                <a:moveTo>
                  <a:pt x="10800" y="157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465">
                <a:moveTo>
                  <a:pt x="11905" y="15214"/>
                </a:moveTo>
                <a:lnTo>
                  <a:pt x="11905" y="13256"/>
                </a:lnTo>
                <a:cubicBezTo>
                  <a:pt x="11905" y="12429"/>
                  <a:pt x="12236" y="11732"/>
                  <a:pt x="12837" y="11732"/>
                </a:cubicBezTo>
                <a:cubicBezTo>
                  <a:pt x="13968" y="11732"/>
                  <a:pt x="14865" y="10366"/>
                  <a:pt x="14865" y="8782"/>
                </a:cubicBezTo>
                <a:cubicBezTo>
                  <a:pt x="14865" y="6467"/>
                  <a:pt x="13011" y="4726"/>
                  <a:pt x="10800" y="4726"/>
                </a:cubicBezTo>
                <a:cubicBezTo>
                  <a:pt x="8589" y="4726"/>
                  <a:pt x="6918" y="6467"/>
                  <a:pt x="6918" y="8782"/>
                </a:cubicBezTo>
                <a:lnTo>
                  <a:pt x="8772" y="8782"/>
                </a:lnTo>
                <a:cubicBezTo>
                  <a:pt x="8772" y="7642"/>
                  <a:pt x="9695" y="6754"/>
                  <a:pt x="10800" y="6754"/>
                </a:cubicBezTo>
                <a:cubicBezTo>
                  <a:pt x="11905" y="6754"/>
                  <a:pt x="12837" y="7642"/>
                  <a:pt x="12837" y="8782"/>
                </a:cubicBezTo>
                <a:cubicBezTo>
                  <a:pt x="12837" y="9522"/>
                  <a:pt x="12367" y="10253"/>
                  <a:pt x="11905" y="10253"/>
                </a:cubicBezTo>
                <a:cubicBezTo>
                  <a:pt x="10800" y="10253"/>
                  <a:pt x="9695" y="11732"/>
                  <a:pt x="9695" y="13256"/>
                </a:cubicBezTo>
                <a:lnTo>
                  <a:pt x="9695" y="1521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справка 8">
            <a:hlinkClick r:id="rId6" action="ppaction://hlinksldjump"/>
          </p:cNvPr>
          <p:cNvSpPr/>
          <p:nvPr/>
        </p:nvSpPr>
        <p:spPr>
          <a:xfrm>
            <a:off x="4071960" y="3571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164" h="21600">
                <a:moveTo>
                  <a:pt x="14187" y="14281"/>
                </a:moveTo>
                <a:lnTo>
                  <a:pt x="14187" y="12323"/>
                </a:lnTo>
                <a:cubicBezTo>
                  <a:pt x="14187" y="11496"/>
                  <a:pt x="14518" y="10800"/>
                  <a:pt x="15119" y="10800"/>
                </a:cubicBezTo>
                <a:cubicBezTo>
                  <a:pt x="16250" y="10800"/>
                  <a:pt x="17147" y="9434"/>
                  <a:pt x="17147" y="7849"/>
                </a:cubicBezTo>
                <a:cubicBezTo>
                  <a:pt x="17147" y="5534"/>
                  <a:pt x="15293" y="3794"/>
                  <a:pt x="13082" y="3794"/>
                </a:cubicBezTo>
                <a:cubicBezTo>
                  <a:pt x="10871" y="3794"/>
                  <a:pt x="9200" y="5534"/>
                  <a:pt x="9200" y="7849"/>
                </a:cubicBezTo>
                <a:lnTo>
                  <a:pt x="11054" y="7849"/>
                </a:lnTo>
                <a:cubicBezTo>
                  <a:pt x="11054" y="6709"/>
                  <a:pt x="11977" y="5821"/>
                  <a:pt x="13082" y="5821"/>
                </a:cubicBezTo>
                <a:cubicBezTo>
                  <a:pt x="14187" y="5821"/>
                  <a:pt x="15119" y="6709"/>
                  <a:pt x="15119" y="7849"/>
                </a:cubicBezTo>
                <a:cubicBezTo>
                  <a:pt x="15119" y="8589"/>
                  <a:pt x="14649" y="9320"/>
                  <a:pt x="14187" y="9320"/>
                </a:cubicBezTo>
                <a:cubicBezTo>
                  <a:pt x="13082" y="9320"/>
                  <a:pt x="11977" y="10800"/>
                  <a:pt x="11977" y="12323"/>
                </a:cubicBezTo>
                <a:lnTo>
                  <a:pt x="11977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справка 13">
            <a:hlinkClick r:id="rId7" action="ppaction://hlinksldjump"/>
          </p:cNvPr>
          <p:cNvSpPr/>
          <p:nvPr/>
        </p:nvSpPr>
        <p:spPr>
          <a:xfrm>
            <a:off x="7572240" y="3500280"/>
            <a:ext cx="571680" cy="54324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22730" h="21600">
                <a:moveTo>
                  <a:pt x="0" y="0"/>
                </a:moveTo>
                <a:lnTo>
                  <a:pt x="22730" y="0"/>
                </a:lnTo>
                <a:lnTo>
                  <a:pt x="22730" y="21600"/>
                </a:lnTo>
                <a:lnTo>
                  <a:pt x="0" y="21600"/>
                </a:lnTo>
                <a:close/>
              </a:path>
              <a:path fill="lightenLess" w="22730" h="21600">
                <a:moveTo>
                  <a:pt x="0" y="0"/>
                </a:moveTo>
                <a:lnTo>
                  <a:pt x="22730" y="0"/>
                </a:lnTo>
                <a:lnTo>
                  <a:pt x="21330" y="1400"/>
                </a:lnTo>
                <a:lnTo>
                  <a:pt x="1400" y="1400"/>
                </a:lnTo>
                <a:close/>
              </a:path>
              <a:path fill="darken" w="22730" h="21600">
                <a:moveTo>
                  <a:pt x="22730" y="0"/>
                </a:moveTo>
                <a:lnTo>
                  <a:pt x="22730" y="21600"/>
                </a:lnTo>
                <a:lnTo>
                  <a:pt x="21330" y="20200"/>
                </a:lnTo>
                <a:lnTo>
                  <a:pt x="21330" y="1400"/>
                </a:lnTo>
                <a:close/>
              </a:path>
              <a:path fill="darkenLess" w="22730" h="21600">
                <a:moveTo>
                  <a:pt x="22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0" y="20200"/>
                </a:lnTo>
                <a:close/>
              </a:path>
              <a:path fill="lighten" w="22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0" h="21600">
                <a:moveTo>
                  <a:pt x="113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0" h="21600">
                <a:moveTo>
                  <a:pt x="12470" y="14281"/>
                </a:moveTo>
                <a:lnTo>
                  <a:pt x="12470" y="12323"/>
                </a:lnTo>
                <a:cubicBezTo>
                  <a:pt x="12470" y="11496"/>
                  <a:pt x="12801" y="10800"/>
                  <a:pt x="13402" y="10800"/>
                </a:cubicBezTo>
                <a:cubicBezTo>
                  <a:pt x="14533" y="10800"/>
                  <a:pt x="15430" y="9434"/>
                  <a:pt x="15430" y="7849"/>
                </a:cubicBezTo>
                <a:cubicBezTo>
                  <a:pt x="15430" y="5534"/>
                  <a:pt x="13576" y="3794"/>
                  <a:pt x="11365" y="3794"/>
                </a:cubicBezTo>
                <a:cubicBezTo>
                  <a:pt x="9154" y="3794"/>
                  <a:pt x="7483" y="5534"/>
                  <a:pt x="7483" y="7849"/>
                </a:cubicBezTo>
                <a:lnTo>
                  <a:pt x="9337" y="7849"/>
                </a:lnTo>
                <a:cubicBezTo>
                  <a:pt x="9337" y="6709"/>
                  <a:pt x="10260" y="5821"/>
                  <a:pt x="11365" y="5821"/>
                </a:cubicBezTo>
                <a:cubicBezTo>
                  <a:pt x="12470" y="5821"/>
                  <a:pt x="13402" y="6709"/>
                  <a:pt x="13402" y="7849"/>
                </a:cubicBezTo>
                <a:cubicBezTo>
                  <a:pt x="13402" y="8589"/>
                  <a:pt x="12932" y="9320"/>
                  <a:pt x="12470" y="9320"/>
                </a:cubicBezTo>
                <a:cubicBezTo>
                  <a:pt x="11365" y="9320"/>
                  <a:pt x="10260" y="10800"/>
                  <a:pt x="10260" y="12323"/>
                </a:cubicBezTo>
                <a:lnTo>
                  <a:pt x="10260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правляющая кнопка: справка 14">
            <a:hlinkClick r:id="rId8" action="ppaction://hlinksldjump"/>
          </p:cNvPr>
          <p:cNvSpPr/>
          <p:nvPr/>
        </p:nvSpPr>
        <p:spPr>
          <a:xfrm>
            <a:off x="1643040" y="6000840"/>
            <a:ext cx="500040" cy="47124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2919" h="21600">
                <a:moveTo>
                  <a:pt x="0" y="0"/>
                </a:moveTo>
                <a:lnTo>
                  <a:pt x="22919" y="0"/>
                </a:lnTo>
                <a:lnTo>
                  <a:pt x="22919" y="21600"/>
                </a:lnTo>
                <a:lnTo>
                  <a:pt x="0" y="21600"/>
                </a:lnTo>
                <a:close/>
              </a:path>
              <a:path fill="lightenLess" w="22919" h="21600">
                <a:moveTo>
                  <a:pt x="0" y="0"/>
                </a:moveTo>
                <a:lnTo>
                  <a:pt x="22919" y="0"/>
                </a:lnTo>
                <a:lnTo>
                  <a:pt x="21519" y="1400"/>
                </a:lnTo>
                <a:lnTo>
                  <a:pt x="1400" y="1400"/>
                </a:lnTo>
                <a:close/>
              </a:path>
              <a:path fill="darken" w="22919" h="21600">
                <a:moveTo>
                  <a:pt x="22919" y="0"/>
                </a:moveTo>
                <a:lnTo>
                  <a:pt x="22919" y="21600"/>
                </a:lnTo>
                <a:lnTo>
                  <a:pt x="21519" y="20200"/>
                </a:lnTo>
                <a:lnTo>
                  <a:pt x="21519" y="1400"/>
                </a:lnTo>
                <a:close/>
              </a:path>
              <a:path fill="darkenLess" w="22919" h="21600">
                <a:moveTo>
                  <a:pt x="22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9" y="20200"/>
                </a:lnTo>
                <a:close/>
              </a:path>
              <a:path fill="lighten" w="22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9" h="21600">
                <a:moveTo>
                  <a:pt x="1146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19" h="21600">
                <a:moveTo>
                  <a:pt x="12565" y="14281"/>
                </a:moveTo>
                <a:lnTo>
                  <a:pt x="12565" y="12323"/>
                </a:lnTo>
                <a:cubicBezTo>
                  <a:pt x="12565" y="11496"/>
                  <a:pt x="12896" y="10800"/>
                  <a:pt x="13496" y="10800"/>
                </a:cubicBezTo>
                <a:cubicBezTo>
                  <a:pt x="14628" y="10800"/>
                  <a:pt x="15524" y="9434"/>
                  <a:pt x="15524" y="7849"/>
                </a:cubicBezTo>
                <a:cubicBezTo>
                  <a:pt x="15524" y="5534"/>
                  <a:pt x="13670" y="3794"/>
                  <a:pt x="11460" y="3794"/>
                </a:cubicBezTo>
                <a:cubicBezTo>
                  <a:pt x="9249" y="3794"/>
                  <a:pt x="7578" y="5534"/>
                  <a:pt x="7578" y="7849"/>
                </a:cubicBezTo>
                <a:lnTo>
                  <a:pt x="9432" y="7849"/>
                </a:lnTo>
                <a:cubicBezTo>
                  <a:pt x="9432" y="6709"/>
                  <a:pt x="10354" y="5821"/>
                  <a:pt x="11460" y="5821"/>
                </a:cubicBezTo>
                <a:cubicBezTo>
                  <a:pt x="12565" y="5821"/>
                  <a:pt x="13496" y="6709"/>
                  <a:pt x="13496" y="7849"/>
                </a:cubicBezTo>
                <a:cubicBezTo>
                  <a:pt x="13496" y="8589"/>
                  <a:pt x="13026" y="9320"/>
                  <a:pt x="12565" y="9320"/>
                </a:cubicBezTo>
                <a:cubicBezTo>
                  <a:pt x="11460" y="9320"/>
                  <a:pt x="10354" y="10800"/>
                  <a:pt x="10354" y="12323"/>
                </a:cubicBezTo>
                <a:lnTo>
                  <a:pt x="10354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справка 15">
            <a:hlinkClick r:id="rId9" action="ppaction://hlinksldjump"/>
          </p:cNvPr>
          <p:cNvSpPr/>
          <p:nvPr/>
        </p:nvSpPr>
        <p:spPr>
          <a:xfrm>
            <a:off x="4643280" y="6000840"/>
            <a:ext cx="500400" cy="471240"/>
          </a:xfrm>
          <a:custGeom>
            <a:avLst/>
            <a:gdLst>
              <a:gd name="textAreaLeft" fmla="*/ 30240 w 500400"/>
              <a:gd name="textAreaRight" fmla="*/ 470160 w 50040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114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36" h="21600">
                <a:moveTo>
                  <a:pt x="12573" y="14281"/>
                </a:moveTo>
                <a:lnTo>
                  <a:pt x="12573" y="12323"/>
                </a:lnTo>
                <a:cubicBezTo>
                  <a:pt x="12573" y="11496"/>
                  <a:pt x="12904" y="10800"/>
                  <a:pt x="13504" y="10800"/>
                </a:cubicBezTo>
                <a:cubicBezTo>
                  <a:pt x="14636" y="10800"/>
                  <a:pt x="15532" y="9434"/>
                  <a:pt x="15532" y="7849"/>
                </a:cubicBezTo>
                <a:cubicBezTo>
                  <a:pt x="15532" y="5534"/>
                  <a:pt x="13679" y="3794"/>
                  <a:pt x="11468" y="3794"/>
                </a:cubicBezTo>
                <a:cubicBezTo>
                  <a:pt x="9257" y="3794"/>
                  <a:pt x="7586" y="5534"/>
                  <a:pt x="7586" y="7849"/>
                </a:cubicBezTo>
                <a:lnTo>
                  <a:pt x="9440" y="7849"/>
                </a:lnTo>
                <a:cubicBezTo>
                  <a:pt x="9440" y="6709"/>
                  <a:pt x="10362" y="5821"/>
                  <a:pt x="11468" y="5821"/>
                </a:cubicBezTo>
                <a:cubicBezTo>
                  <a:pt x="12573" y="5821"/>
                  <a:pt x="13504" y="6709"/>
                  <a:pt x="13504" y="7849"/>
                </a:cubicBezTo>
                <a:cubicBezTo>
                  <a:pt x="13504" y="8589"/>
                  <a:pt x="13034" y="9320"/>
                  <a:pt x="12573" y="9320"/>
                </a:cubicBezTo>
                <a:cubicBezTo>
                  <a:pt x="11468" y="9320"/>
                  <a:pt x="10362" y="10800"/>
                  <a:pt x="10362" y="12323"/>
                </a:cubicBezTo>
                <a:lnTo>
                  <a:pt x="10362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справка 16">
            <a:hlinkClick r:id="rId10" action="ppaction://hlinksldjump"/>
          </p:cNvPr>
          <p:cNvSpPr/>
          <p:nvPr/>
        </p:nvSpPr>
        <p:spPr>
          <a:xfrm>
            <a:off x="7000920" y="6072120"/>
            <a:ext cx="500040" cy="47160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2" h="21600">
                <a:moveTo>
                  <a:pt x="1145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02" h="21600">
                <a:moveTo>
                  <a:pt x="12556" y="14281"/>
                </a:moveTo>
                <a:lnTo>
                  <a:pt x="12556" y="12323"/>
                </a:lnTo>
                <a:cubicBezTo>
                  <a:pt x="12556" y="11496"/>
                  <a:pt x="12887" y="10800"/>
                  <a:pt x="13487" y="10800"/>
                </a:cubicBezTo>
                <a:cubicBezTo>
                  <a:pt x="14619" y="10800"/>
                  <a:pt x="15515" y="9434"/>
                  <a:pt x="15515" y="7849"/>
                </a:cubicBezTo>
                <a:cubicBezTo>
                  <a:pt x="15515" y="5534"/>
                  <a:pt x="13662" y="3794"/>
                  <a:pt x="11451" y="3794"/>
                </a:cubicBezTo>
                <a:cubicBezTo>
                  <a:pt x="9240" y="3794"/>
                  <a:pt x="7569" y="5534"/>
                  <a:pt x="7569" y="7849"/>
                </a:cubicBezTo>
                <a:lnTo>
                  <a:pt x="9423" y="7849"/>
                </a:lnTo>
                <a:cubicBezTo>
                  <a:pt x="9423" y="6709"/>
                  <a:pt x="10345" y="5821"/>
                  <a:pt x="11451" y="5821"/>
                </a:cubicBezTo>
                <a:cubicBezTo>
                  <a:pt x="12556" y="5821"/>
                  <a:pt x="13487" y="6709"/>
                  <a:pt x="13487" y="7849"/>
                </a:cubicBezTo>
                <a:cubicBezTo>
                  <a:pt x="13487" y="8589"/>
                  <a:pt x="13017" y="9320"/>
                  <a:pt x="12556" y="9320"/>
                </a:cubicBezTo>
                <a:cubicBezTo>
                  <a:pt x="11451" y="9320"/>
                  <a:pt x="10345" y="10800"/>
                  <a:pt x="10345" y="12323"/>
                </a:cubicBezTo>
                <a:lnTo>
                  <a:pt x="10345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цветок – любимый цветок великого русского композитора П.И.Чайковског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домой 7">
            <a:hlinkClick r:id="rId1" action="ppaction://hlinksldjump"/>
          </p:cNvPr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celebnoe.3dn.ru/_pu/0/83641666.jpg"/>
          <p:cNvPicPr/>
          <p:nvPr/>
        </p:nvPicPr>
        <p:blipFill>
          <a:blip r:embed="rId2"/>
          <a:stretch/>
        </p:blipFill>
        <p:spPr>
          <a:xfrm>
            <a:off x="1643040" y="2000160"/>
            <a:ext cx="5986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576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28440"/>
            <a:ext cx="41860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ать его нам неч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сам прид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цветет доверч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 у воро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м зали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ик зо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фья Аврам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yama-kinpouge"/>
          <p:cNvPicPr/>
          <p:nvPr/>
        </p:nvPicPr>
        <p:blipFill>
          <a:blip r:embed="rId1"/>
          <a:stretch/>
        </p:blipFill>
        <p:spPr>
          <a:xfrm>
            <a:off x="4643280" y="1857240"/>
            <a:ext cx="4038840" cy="3033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домой 8">
            <a:hlinkClick r:id="rId2" action="ppaction://hlinksldjump"/>
          </p:cNvPr>
          <p:cNvSpPr/>
          <p:nvPr/>
        </p:nvSpPr>
        <p:spPr>
          <a:xfrm>
            <a:off x="78580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победы этот цвето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 букет соберёшь из нег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енков, сортов выбор больш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ье на пряность похоже его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Леонов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393073"/>
          <p:cNvPicPr/>
          <p:nvPr/>
        </p:nvPicPr>
        <p:blipFill>
          <a:blip r:embed="rId1"/>
          <a:srcRect l="0" t="0" r="5120" b="0"/>
          <a:stretch/>
        </p:blipFill>
        <p:spPr>
          <a:xfrm>
            <a:off x="2092320" y="2643120"/>
            <a:ext cx="4959360" cy="3483000"/>
          </a:xfrm>
          <a:prstGeom prst="rect">
            <a:avLst/>
          </a:prstGeom>
          <a:ln w="0">
            <a:noFill/>
          </a:ln>
        </p:spPr>
      </p:pic>
      <p:sp>
        <p:nvSpPr>
          <p:cNvPr id="77" name="Управляющая кнопка: домой 9">
            <a:hlinkClick r:id="rId2" action="ppaction://hlinksldjump"/>
          </p:cNvPr>
          <p:cNvSpPr/>
          <p:nvPr/>
        </p:nvSpPr>
        <p:spPr>
          <a:xfrm>
            <a:off x="778680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33:43Z</dcterms:created>
  <dc:creator>Dom</dc:creator>
  <dc:description/>
  <dc:language>en-US</dc:language>
  <cp:lastModifiedBy>Admin</cp:lastModifiedBy>
  <dcterms:modified xsi:type="dcterms:W3CDTF">2015-11-08T20:40:45Z</dcterms:modified>
  <cp:revision>67</cp:revision>
  <dc:subject/>
  <dc:title>«Сяськаосын пумиськон – со котьку шумпотон»</dc:title>
</cp:coreProperties>
</file>